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notesSlides/_rels/notesSlide9.xml.rels" ContentType="application/vnd.openxmlformats-package.relationships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19.png" ContentType="image/png"/>
  <Override PartName="/ppt/media/image2.wmf" ContentType="image/x-wmf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3.wmf" ContentType="image/x-wmf"/>
  <Override PartName="/ppt/media/image4.png" ContentType="image/png"/>
  <Override PartName="/ppt/media/image6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notesMasterIdLst>
    <p:notesMasterId r:id="rId20"/>
  </p:notesMasterIdLst>
  <p:sldIdLst>
    <p:sldId id="256" r:id="rId21"/>
    <p:sldId id="257" r:id="rId22"/>
    <p:sldId id="258" r:id="rId23"/>
    <p:sldId id="259" r:id="rId24"/>
    <p:sldId id="260" r:id="rId25"/>
    <p:sldId id="261" r:id="rId26"/>
    <p:sldId id="262" r:id="rId27"/>
    <p:sldId id="263" r:id="rId28"/>
    <p:sldId id="264" r:id="rId29"/>
    <p:sldId id="265" r:id="rId30"/>
    <p:sldId id="266" r:id="rId31"/>
    <p:sldId id="267" r:id="rId32"/>
    <p:sldId id="268" r:id="rId33"/>
    <p:sldId id="269" r:id="rId34"/>
    <p:sldId id="270" r:id="rId35"/>
    <p:sldId id="271" r:id="rId36"/>
    <p:sldId id="272" r:id="rId37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notesMaster" Target="notesMasters/notesMaster1.xml"/><Relationship Id="rId21" Type="http://schemas.openxmlformats.org/officeDocument/2006/relationships/slide" Target="slides/slide1.xml"/><Relationship Id="rId22" Type="http://schemas.openxmlformats.org/officeDocument/2006/relationships/slide" Target="slides/slide2.xml"/><Relationship Id="rId23" Type="http://schemas.openxmlformats.org/officeDocument/2006/relationships/slide" Target="slides/slide3.xml"/><Relationship Id="rId24" Type="http://schemas.openxmlformats.org/officeDocument/2006/relationships/slide" Target="slides/slide4.xml"/><Relationship Id="rId25" Type="http://schemas.openxmlformats.org/officeDocument/2006/relationships/slide" Target="slides/slide5.xml"/><Relationship Id="rId26" Type="http://schemas.openxmlformats.org/officeDocument/2006/relationships/slide" Target="slides/slide6.xml"/><Relationship Id="rId27" Type="http://schemas.openxmlformats.org/officeDocument/2006/relationships/slide" Target="slides/slide7.xml"/><Relationship Id="rId28" Type="http://schemas.openxmlformats.org/officeDocument/2006/relationships/slide" Target="slides/slide8.xml"/><Relationship Id="rId29" Type="http://schemas.openxmlformats.org/officeDocument/2006/relationships/slide" Target="slides/slide9.xml"/><Relationship Id="rId30" Type="http://schemas.openxmlformats.org/officeDocument/2006/relationships/slide" Target="slides/slide10.xml"/><Relationship Id="rId31" Type="http://schemas.openxmlformats.org/officeDocument/2006/relationships/slide" Target="slides/slide11.xml"/><Relationship Id="rId32" Type="http://schemas.openxmlformats.org/officeDocument/2006/relationships/slide" Target="slides/slide12.xml"/><Relationship Id="rId33" Type="http://schemas.openxmlformats.org/officeDocument/2006/relationships/slide" Target="slides/slide13.xml"/><Relationship Id="rId34" Type="http://schemas.openxmlformats.org/officeDocument/2006/relationships/slide" Target="slides/slide14.xml"/><Relationship Id="rId35" Type="http://schemas.openxmlformats.org/officeDocument/2006/relationships/slide" Target="slides/slide15.xml"/><Relationship Id="rId36" Type="http://schemas.openxmlformats.org/officeDocument/2006/relationships/slide" Target="slides/slide16.xml"/><Relationship Id="rId37" Type="http://schemas.openxmlformats.org/officeDocument/2006/relationships/slide" Target="slides/slide17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"/>
          <p:cNvSpPr/>
          <p:nvPr/>
        </p:nvSpPr>
        <p:spPr>
          <a:xfrm>
            <a:off x="0" y="0"/>
            <a:ext cx="6800400" cy="9928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 type="dt" idx="18"/>
          </p:nvPr>
        </p:nvSpPr>
        <p:spPr>
          <a:xfrm>
            <a:off x="385128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 type="sldImg"/>
          </p:nvPr>
        </p:nvSpPr>
        <p:spPr>
          <a:xfrm>
            <a:off x="917280" y="744120"/>
            <a:ext cx="4964040" cy="3722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5" name="PlaceHolder 4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6" name="PlaceHolder 5"/>
          <p:cNvSpPr>
            <a:spLocks noGrp="1"/>
          </p:cNvSpPr>
          <p:nvPr>
            <p:ph type="ftr" idx="19"/>
          </p:nvPr>
        </p:nvSpPr>
        <p:spPr>
          <a:xfrm>
            <a:off x="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PlaceHolder 6"/>
          <p:cNvSpPr>
            <a:spLocks noGrp="1"/>
          </p:cNvSpPr>
          <p:nvPr>
            <p:ph type="sldNum" idx="20"/>
          </p:nvPr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lv-LV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33470FF-99A4-4EBF-B5B1-1E1156780B76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4040" cy="3722760"/>
          </a:xfrm>
          <a:prstGeom prst="rect">
            <a:avLst/>
          </a:prstGeom>
          <a:ln w="0">
            <a:noFill/>
          </a:ln>
        </p:spPr>
      </p:sp>
      <p:sp>
        <p:nvSpPr>
          <p:cNvPr id="809" name="PlaceHolder 2"/>
          <p:cNvSpPr>
            <a:spLocks noGrp="1"/>
          </p:cNvSpPr>
          <p:nvPr>
            <p:ph type="body"/>
          </p:nvPr>
        </p:nvSpPr>
        <p:spPr>
          <a:xfrm>
            <a:off x="679320" y="4716360"/>
            <a:ext cx="5440320" cy="4469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0" name="Slide Number Placeholder 3"/>
          <p:cNvSpPr/>
          <p:nvPr/>
        </p:nvSpPr>
        <p:spPr>
          <a:xfrm>
            <a:off x="3851280" y="9431280"/>
            <a:ext cx="2946240" cy="496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182F2E9-7647-4102-B10A-101EEC5EA3D8}" type="slidenum">
              <a:rPr b="0" lang="lv-LV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F9565-C96B-4766-8CDF-5E05B63028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C88D5-B3BE-4CF4-B726-36D3DCC9C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2AAC7A-AEB6-42F0-ACFA-840597B44264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1EDF61C-C4B5-4444-A7ED-13006F838C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92500BD-0752-4068-965D-78487264FAC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2BB9654-C8D0-418E-A9B3-5D14F0843532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840E482-FCFA-4517-8161-2D2DBDD42DE2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3C6ED52-D182-4761-84CC-4FC735FEAE15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302558B-BACA-439B-A062-6646E975175B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96BF2D2-E01B-4318-A7DE-CADD012E19A8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AD18961-E730-41F3-AAE0-1C87348BCDDE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A04C015-0780-4F6A-BE69-46271A9B01A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71F-A8E7-4F45-B3E1-D2951D3BEF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A298666-C4CC-49D0-85F0-C9EF58FF9F7C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455FBC6-311D-4B13-8929-E221FFA49308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824593E-3C95-4C8E-B880-EF11ED1BFE5D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31A5AA0-A1DA-46E7-9F26-749498E83CE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B80549C-63FB-4994-80F0-A5407DE5FB55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CAB765C-AFC1-48D2-8539-258656924B70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B6D2BB4-4497-45CC-96DC-C1E1068DF72F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47357F1-6610-4C08-88F1-ADB078EB6C08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37AA5A6-5E32-4763-89E2-70971B6638E2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3F7D72A-B34A-4951-AB1D-E0B94D40603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88653-299E-41EC-8F8D-458E1EFB06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17C2D4-867B-4F1F-95F0-1CFF54107A27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3AC7388-5E1E-4DD6-85A9-25237BF3F536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8D37937-33D0-478F-ADA0-47C0DD714053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7C1674-8A4E-4D20-9224-813A253CBBC5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FE66FC-EAC8-4B21-90DB-D7A342553064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97F6F7-78AC-4C86-836D-0E8FE6799C1D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8CC170-83CF-4F54-A45D-41334C3EDF7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CD32F2B-2DDF-4E24-884A-8160CA8D5BA7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A49938B-4199-4209-B503-0AEEAD04868F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D6A81D0-8A7C-4F24-B14C-A36C81B6ADD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B89C3F8-D0B5-494C-B002-EBF20103F3EB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E92E7-CE56-4180-946F-07938E455B28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B3ED58-0176-48F6-B07C-231E4D92DF58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00400F5-C0BA-4C74-A5C9-6CC6A07BEE7D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975684-A5EF-4F2D-956B-AB5D2D9C4BD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62E9649-FA37-4A1E-B5C1-59A7077B5845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4CE34A6-C18B-432A-9975-DF6FF54788EF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01B68B1-0092-4CA1-831D-77B6D4F25B52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36880FF-2BFE-4C05-A514-521246F17C3E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6C8983-08F3-476D-B93E-83A69D49D29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EB89BD4A-31A8-4057-999F-8BB1E143A64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4E029F08-7939-4AB4-BAE6-017000C56FD0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D35975E-2E58-44C0-95CB-1FCFA395C8AB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B95348-F777-4FBF-96BB-8F5F9F02C8A1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A76036D-F2FE-4128-8ABA-B5261E4CF74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3F35885-EF9E-4AB8-8365-8044884F41D6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7CBA7A40-E6F4-458A-9438-3CE8BDEDCB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0D617EF-8A70-403E-B2F3-5E0FB40C4427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7BF4E4E-686A-4110-9FDD-BF4D97BA7886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D0E658E-3F3A-4643-8A5A-52F607BA1331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D1BA65-59B7-4624-8FAE-CF3BB87FAF95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ADE6F9F-C2BD-4AB0-99C1-48C548A767DF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7244FD0-BE46-4E18-B898-A6233D2A0D0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DEB779-BB0A-43F6-9CC4-A95774BE858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BEE079-3D6F-4909-B87C-309C3390937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BEFE711-1675-4861-B7FD-5CC14B3EF038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206642C-9584-4E77-971E-50622471FB0F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3332C9B-3A57-4828-9E76-2D70186123FF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09E94-342D-4FE8-A2FC-2B027062DC3D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795E7C-C9C3-4FA7-AD56-A5B3FECBFBD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E737EFE-0049-4D73-865A-866D49023DD0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BF1B6B0-A39C-4AB4-9760-103937560E6F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1B361B8-6C12-4C39-8D5F-B7BD9D801F49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00EF2CF-E9CE-4CF9-8C9F-4EFD11010A84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6163CD-3539-43C2-A154-41E5CB32BC9C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8D6DC8A-8223-4422-ADE7-65C3CCC37674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1906159-5DC2-4D7D-9C5C-57521C35AD3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EC30F8F-8873-4D2F-8B31-F4D226C0D935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16AA15-3F2A-4518-936D-1A756563761A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E2AF42B-FF49-4840-95A6-0050E2575FE5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112A0D-BC4C-48DA-AF61-658439898824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7CC0701-D4CF-47DA-84E2-D7BE148C59F4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15AB659-96B8-449A-919E-2E1FCF233C23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011348E-33A0-4C4E-A48B-422FABF3B2E2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E4F9E9-7295-4E38-B89B-0A2C0E90A91F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DBC7628-C605-464E-B995-EA164E8600C0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886105A7-5E10-41AB-914C-712D523B0264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C5F50F4-8626-4D6A-9D02-36FF54289E67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ED056128-F2C9-4A4C-9C7B-8D6E3F84C67D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5F505FA-0854-4CF2-BFE3-8A32CB7FC37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3E4FFF1-815C-47EF-BEFA-0D5C9F4195D8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07409A3-8FC0-4A34-9320-379AF0C9A90F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61A5F5C-8C77-48F0-8F2E-B853389510E7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38F5091-62F9-4336-9605-C0000A3A96F3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04A72B89-4A82-499F-99C6-9C916434270E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B828D72-56EC-4680-8C98-4C19FE9AD4F4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8C82FD2-A791-4AEB-8698-0CC3267E0CC3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5C79ACB-5E02-4168-98F6-FCB2CC986B6B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4B80A8C-634D-4BDA-AAFA-6E010B697ED3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9D4F4C-833E-4F94-8EE5-B37D7ECD851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7AF582D-F8FA-4DF7-B51C-79514933C331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34319A9-1D21-4C0C-82A7-49488EF306BE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FD53FFF-4A63-4301-8968-7B0CAF1526DF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ADAFD-366F-45A7-8DC4-ECFEEBAC09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99D5A7A-A311-4363-98F5-B4A4140DCC41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CA4708-A5B5-4005-9DD8-9E6EDFD8FABA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B6512BF-39B8-4411-ACCE-64217BF6564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FB4E2D2-8B0D-4F3D-8D7E-D598EBF6A1D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75AD69-0B1F-433E-9203-E75D1F22BEB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2C5DF-5745-4A9A-A822-409A3B512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850044D-ACE6-4F05-9A92-4D6DB1F69B9E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B7C41C-75B4-4336-A8FE-F298814FC9BF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77AC701-A930-4981-86BE-88F469F54E6B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391B023-0DED-4047-86FE-4CB87137CCA2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2941666-0E3E-4505-8ACF-A81CB1EA4B84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4B3CCED-5774-4F90-BCC0-A3CC3A5EA34A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1A5E4E0-DC8E-436D-BF7C-062D16B4140B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E0EF1BA-AFAF-4E72-85A2-BC65F9D5D333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8418C5E-AB82-422D-8F7D-3F1DE947C67B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E6C242B-DD92-4766-AFB4-0DBA00DCB9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BE03-5541-4589-A8B5-CA10EE5C03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5129859-59E0-40EA-86A2-BECD108715CE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14A59D-280D-4A40-BCA0-EBB3EC2C3B0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0B495EC-8321-445D-97DF-F421EE8E2C2F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0F6EAD-850F-4767-B01B-1A904ECC1FA7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79034C-6985-48B4-A111-689EBBABDC0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288DE30-6472-4064-B0AE-19BDFBB7D6CB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E4A3A47-6DEE-4041-A6CB-77A6B99C6A25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0FB1217-A0AF-4D62-B8A9-5D52F407E2DB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7B352FF-FD8B-4C2E-8F23-8F58421205C4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5A1D3D-AB18-40D0-8F75-B28DF29AE86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66A88-6698-48B1-AE00-9695FC16C5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E88DDB-88A6-4A5C-AF9D-0A386430AAB2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1E1E76-44E6-49E4-90ED-CCFA3C5ECB1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CF8B3C-564D-435F-A8E0-FB32A2E4E8C7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956FD4-38B8-43FC-A225-CB07B745EFB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9D6F14-282C-4DA5-A75C-EE744DC6978A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05B5A-8006-49DA-9DCC-58CA43E8907E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EF0E5A-FC4E-4047-8329-82253DF8C547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6F1E-A411-45EA-B48C-37F2FFDF3B5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31A5F9-88BD-4838-A8B2-4AC0A35100CD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A604E-ECE2-4AD4-B001-66A59457F51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9EB3F-F458-46A0-8A73-8D88452E10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A9D43C-0899-4B43-85E1-FED3332F1FEF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2178B74-C76E-43B1-B0F9-00F40F19D845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503B542-52B0-43A2-9338-28A149122714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0093E92-92CA-43D0-8DA4-AFD6EBAABAF1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9B9122C-72A9-4C91-9EF1-087B7903E95C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CE59440-0E30-49B1-BBEB-8E4F0B065D80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FE54ACB-6F51-497C-AB14-F6C17FFDDDDF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3325039-ACFF-4D5C-8A58-034BC5539AE5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A04C1B-36EF-40C3-857E-3274F8A7B499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FFB0B6E-F61D-4AA3-9C5E-9482612CAB3C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363C5-4D21-4750-ABB3-2C087D3B23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8497BD5-5E79-42F8-9EA1-CED5F8718156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78EE44F-B3FD-4B92-A386-A92A43477CC7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4C7C819-BA82-4ADE-9235-69500DAE7E8F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1A32B53-9F01-4CFF-980E-0A7BAECF6DB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AD59575-79D4-46F0-A8CF-361848AA2AC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8BA8863-E53A-48B3-A32B-0691A60457CE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A552888-4F69-4ED4-BA90-2203423E60A2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9FEB5-2ED3-4DA4-B63A-60D0A9CF727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543F4D-07A6-4DF1-BC64-FC7074042772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5DEFC8C-9076-4663-9A6B-AEE6CCF262D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6F0F1-AF60-4A0D-B2B0-C4223FF394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83566191-DC50-43E9-82F2-FA1E681A50C7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25E47DA-62CD-400C-B5AB-40160651193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4B4F62-08AA-4F9F-A722-C56B9462CF67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237B61E-83CC-4288-9798-703E43796CD1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7355CC6-8E04-4578-83B5-F9D78E522EFC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F63092-3428-48BB-B717-1E9CB011B1AF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3A260B1-33F3-4865-A1F0-85D46BB1D437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CC2ADC1-8E80-4EA5-A0DC-503F5051C24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9807A57-88FA-4D00-8E9B-A2719624F4BB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EE132F0-FF0B-4494-A68D-5CDF6855A88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1D027-F4CC-43B4-9FD2-654B5C9CA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A2C07F-544F-4CB7-A6D4-C0DF6D055229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019A519-ABB4-4D45-8EA0-617B9826941B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2743D33-68A4-4728-80D8-700AC51092FF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5EFD4CA-D3FA-4B46-A758-BE51C608DDE5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D393155-B9FE-4973-89F2-80BC97D05334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4DBEB16-191F-4D68-8CA5-44E3E47BB833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8AF8E9-A403-407B-887F-01B74D137BC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3EEA82-D016-49DE-9FDA-52FC37F2B118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51BF7BE-80CC-4E8C-9FDD-D84DCB62745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8995DB7-0A11-4C74-8003-E57E553F53F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C22F754-4EA4-4DF6-A68B-B104FC1C95E5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3DAB848-647C-4A5B-AC0F-440B7A6357F8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EE542AB-AD19-474E-8D15-293DA1F695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8ED003D-96D4-493C-9F00-D965AB5C883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1E3781D-2536-46E3-8A95-A214BC0B1D2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0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91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F9FA04E2-5591-4B7B-8C97-FC81EC3F918D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1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4EE3D7F-F7C8-44A9-A95A-594FF603F8D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1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72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ECD1BEF-B9C9-4BFF-AAF3-C38ECB742C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2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A290CB9-9A0F-486E-967D-31D3E58E077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3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9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E636FF05-7F4E-45D9-B679-0E085D35187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848B777-2FDF-40D1-BBEF-CF1BE713E45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050204-BE0E-4915-8514-B31AA37B0C3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06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72E26B01-B3E3-48EB-A73C-6C927CA7DC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7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AF0F485-9FBA-4A83-8797-E853BED4D79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7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88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E1DB7C5-A9C2-41D9-8E8B-95046DC7282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9" name="Picture 3" descr=""/>
          <p:cNvPicPr/>
          <p:nvPr/>
        </p:nvPicPr>
        <p:blipFill>
          <a:blip r:embed="rId3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E542D0D-5E3F-4F11-8ED4-5FD580E4BC5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mailto:linards.deidulis@viaa.gov.lv" TargetMode="External"/><Relationship Id="rId2" Type="http://schemas.openxmlformats.org/officeDocument/2006/relationships/hyperlink" Target="file:///linards.deidulis" TargetMode="External"/><Relationship Id="rId3" Type="http://schemas.openxmlformats.org/officeDocument/2006/relationships/hyperlink" Target="mailto:frank.krohn@siu.no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s://diku.no/" TargetMode="External"/><Relationship Id="rId2" Type="http://schemas.openxmlformats.org/officeDocument/2006/relationships/hyperlink" Target="https://diku.no/" TargetMode="External"/><Relationship Id="rId3" Type="http://schemas.openxmlformats.org/officeDocument/2006/relationships/hyperlink" Target="https://diku.no/" TargetMode="External"/><Relationship Id="rId4" Type="http://schemas.openxmlformats.org/officeDocument/2006/relationships/image" Target="../media/image5.png"/><Relationship Id="rId5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s://espresso.siu.no/" TargetMode="External"/><Relationship Id="rId2" Type="http://schemas.openxmlformats.org/officeDocument/2006/relationships/hyperlink" Target="https://espresso.siu.no/" TargetMode="External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Vizīšu pieteikumu sagatavošana un iesniegšana Espresso sistēmā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PlaceHolder 3"/>
          <p:cNvSpPr>
            <a:spLocks noGrp="1"/>
          </p:cNvSpPr>
          <p:nvPr>
            <p:ph/>
          </p:nvPr>
        </p:nvSpPr>
        <p:spPr>
          <a:xfrm>
            <a:off x="2238480" y="38332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08.septembrī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4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5" name="Picture 6" descr=""/>
          <p:cNvPicPr/>
          <p:nvPr/>
        </p:nvPicPr>
        <p:blipFill>
          <a:blip r:embed="rId1"/>
          <a:stretch/>
        </p:blipFill>
        <p:spPr>
          <a:xfrm>
            <a:off x="3510000" y="-204840"/>
            <a:ext cx="5359320" cy="3944880"/>
          </a:xfrm>
          <a:prstGeom prst="rect">
            <a:avLst/>
          </a:prstGeom>
          <a:ln w="0">
            <a:noFill/>
          </a:ln>
        </p:spPr>
      </p:pic>
      <p:pic>
        <p:nvPicPr>
          <p:cNvPr id="776" name="Picture 7" descr=""/>
          <p:cNvPicPr/>
          <p:nvPr/>
        </p:nvPicPr>
        <p:blipFill>
          <a:blip r:embed="rId2"/>
          <a:stretch/>
        </p:blipFill>
        <p:spPr>
          <a:xfrm>
            <a:off x="3117960" y="3201840"/>
            <a:ext cx="4883040" cy="3700440"/>
          </a:xfrm>
          <a:prstGeom prst="rect">
            <a:avLst/>
          </a:prstGeom>
          <a:ln w="0">
            <a:noFill/>
          </a:ln>
        </p:spPr>
      </p:pic>
      <p:sp>
        <p:nvSpPr>
          <p:cNvPr id="777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34797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264960" indent="-1728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oteikti jāpārliecinās, vai partneru organizācija jau iepriekš nav reģistrēta Espresso sistēmā</a:t>
            </a: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ngļu valodā jāizmanto tāds partneru organizācijas nosaukums, kādu organizācija lieto pati . 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8" name="Straight Arrow Connector 9"/>
          <p:cNvCxnSpPr/>
          <p:nvPr/>
        </p:nvCxnSpPr>
        <p:spPr>
          <a:xfrm flipV="1">
            <a:off x="2850840" y="1166400"/>
            <a:ext cx="4537800" cy="76896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9" name="Straight Arrow Connector 11"/>
          <p:cNvCxnSpPr/>
          <p:nvPr/>
        </p:nvCxnSpPr>
        <p:spPr>
          <a:xfrm flipV="1">
            <a:off x="3003120" y="1463040"/>
            <a:ext cx="3590280" cy="624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sp>
        <p:nvSpPr>
          <p:cNvPr id="780" name="Left Arrow 13"/>
          <p:cNvSpPr/>
          <p:nvPr/>
        </p:nvSpPr>
        <p:spPr>
          <a:xfrm rot="16200000">
            <a:off x="5309280" y="2648160"/>
            <a:ext cx="2614680" cy="355680"/>
          </a:xfrm>
          <a:prstGeom prst="leftArrow">
            <a:avLst>
              <a:gd name="adj1" fmla="val 50000"/>
              <a:gd name="adj2" fmla="val 54487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1" descr=""/>
          <p:cNvPicPr/>
          <p:nvPr/>
        </p:nvPicPr>
        <p:blipFill>
          <a:blip r:embed="rId1"/>
          <a:stretch/>
        </p:blipFill>
        <p:spPr>
          <a:xfrm>
            <a:off x="2930400" y="-1476360"/>
            <a:ext cx="5819760" cy="8238960"/>
          </a:xfrm>
          <a:prstGeom prst="rect">
            <a:avLst/>
          </a:prstGeom>
          <a:ln w="0">
            <a:noFill/>
          </a:ln>
        </p:spPr>
      </p:pic>
      <p:sp>
        <p:nvSpPr>
          <p:cNvPr id="782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7532B2E-187B-414D-8756-334BA34ADD0A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Title 1"/>
          <p:cNvSpPr/>
          <p:nvPr/>
        </p:nvSpPr>
        <p:spPr>
          <a:xfrm>
            <a:off x="0" y="1943280"/>
            <a:ext cx="2232000" cy="362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Īsi jāapraksta projekta iecere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un sagatavošanās vizītes norise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Aprakstiem jābūt koncentrētiem -  un vienlaikus tiem jāsniedz skaidrs priekšstats gan par projekta ieceri, gan sagatavošanās vizītes darba kārtību. 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4" name="Straight Arrow Connector 9"/>
          <p:cNvCxnSpPr/>
          <p:nvPr/>
        </p:nvCxnSpPr>
        <p:spPr>
          <a:xfrm flipV="1">
            <a:off x="1714320" y="2153880"/>
            <a:ext cx="3005640" cy="67392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85" name="Straight Arrow Connector 12"/>
          <p:cNvCxnSpPr/>
          <p:nvPr/>
        </p:nvCxnSpPr>
        <p:spPr>
          <a:xfrm>
            <a:off x="1866600" y="2979360"/>
            <a:ext cx="3182040" cy="12358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6" name="Picture 1" descr=""/>
          <p:cNvPicPr/>
          <p:nvPr/>
        </p:nvPicPr>
        <p:blipFill>
          <a:blip r:embed="rId1"/>
          <a:stretch/>
        </p:blipFill>
        <p:spPr>
          <a:xfrm>
            <a:off x="3286080" y="0"/>
            <a:ext cx="5857920" cy="6257880"/>
          </a:xfrm>
          <a:prstGeom prst="rect">
            <a:avLst/>
          </a:prstGeom>
          <a:ln w="0">
            <a:noFill/>
          </a:ln>
        </p:spPr>
      </p:pic>
      <p:sp>
        <p:nvSpPr>
          <p:cNvPr id="787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0826F90-A033-4CE6-8F12-F2DD0094084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88" name="Straight Arrow Connector 9"/>
          <p:cNvCxnSpPr/>
          <p:nvPr/>
        </p:nvCxnSpPr>
        <p:spPr>
          <a:xfrm flipH="1">
            <a:off x="7325640" y="3835080"/>
            <a:ext cx="762840" cy="927720"/>
          </a:xfrm>
          <a:prstGeom prst="straightConnector1">
            <a:avLst/>
          </a:prstGeom>
          <a:ln w="38160">
            <a:solidFill>
              <a:srgbClr val="c0504d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789" name="Title 1"/>
          <p:cNvSpPr/>
          <p:nvPr/>
        </p:nvSpPr>
        <p:spPr>
          <a:xfrm>
            <a:off x="0" y="1943280"/>
            <a:ext cx="3086280" cy="1892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Jāieraksta dati – apmeklējamā valsts,  braucēju skaits (maks.2 personas)  un brauciena ilgums (maks. 5 dienas, ieskaitot ceļu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0" name="Picture 2" descr=""/>
          <p:cNvPicPr/>
          <p:nvPr/>
        </p:nvPicPr>
        <p:blipFill>
          <a:blip r:embed="rId2"/>
          <a:stretch/>
        </p:blipFill>
        <p:spPr>
          <a:xfrm>
            <a:off x="4572000" y="4762440"/>
            <a:ext cx="3832200" cy="26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CF50B9D6-FE56-4542-9055-49D396B0F69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Title 1"/>
          <p:cNvSpPr/>
          <p:nvPr/>
        </p:nvSpPr>
        <p:spPr>
          <a:xfrm>
            <a:off x="0" y="1943280"/>
            <a:ext cx="2232000" cy="153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eprasīto budžetu sistēma aprēķina automātiski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3" name="Picture 1" descr=""/>
          <p:cNvPicPr/>
          <p:nvPr/>
        </p:nvPicPr>
        <p:blipFill>
          <a:blip r:embed="rId1"/>
          <a:stretch/>
        </p:blipFill>
        <p:spPr>
          <a:xfrm>
            <a:off x="2752560" y="216000"/>
            <a:ext cx="5781960" cy="5972040"/>
          </a:xfrm>
          <a:prstGeom prst="rect">
            <a:avLst/>
          </a:prstGeom>
          <a:ln w="0">
            <a:noFill/>
          </a:ln>
        </p:spPr>
      </p:pic>
      <p:sp>
        <p:nvSpPr>
          <p:cNvPr id="794" name="Title 1"/>
          <p:cNvSpPr/>
          <p:nvPr/>
        </p:nvSpPr>
        <p:spPr>
          <a:xfrm>
            <a:off x="100080" y="4184640"/>
            <a:ext cx="2232000" cy="153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Obligāti jāpievieno partnera apliecinājuma vēstule!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95" name="Straight Arrow Connector 6"/>
          <p:cNvCxnSpPr/>
          <p:nvPr/>
        </p:nvCxnSpPr>
        <p:spPr>
          <a:xfrm>
            <a:off x="2371320" y="4913280"/>
            <a:ext cx="2366280" cy="7200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76AF140-A734-4BC3-97D3-6F20A6B35B0C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Title 1"/>
          <p:cNvSpPr/>
          <p:nvPr/>
        </p:nvSpPr>
        <p:spPr>
          <a:xfrm>
            <a:off x="0" y="1943280"/>
            <a:ext cx="2332080" cy="303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buClr>
                <a:srgbClr val="ff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ff0000"/>
                </a:solidFill>
                <a:latin typeface="Verdana"/>
              </a:rPr>
              <a:t>!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Ja sagatavošanas vizītes pieteikums tiks atbalstīts, šie bankas rekvizīti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tiks ietverti līgumā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un </a:t>
            </a:r>
            <a:r>
              <a:rPr b="1" lang="lv-LV" sz="1700" spc="-1" strike="noStrike">
                <a:solidFill>
                  <a:srgbClr val="000000"/>
                </a:solidFill>
                <a:latin typeface="Verdana"/>
              </a:rPr>
              <a:t>uz norādīto kontu </a:t>
            </a:r>
            <a:r>
              <a:rPr b="0" lang="lv-LV" sz="1700" spc="-1" strike="noStrike">
                <a:solidFill>
                  <a:srgbClr val="000000"/>
                </a:solidFill>
                <a:latin typeface="Verdana"/>
              </a:rPr>
              <a:t>tiks pārskaitīts piešķirtais finansējums. 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1" descr=""/>
          <p:cNvPicPr/>
          <p:nvPr/>
        </p:nvPicPr>
        <p:blipFill>
          <a:blip r:embed="rId1"/>
          <a:stretch/>
        </p:blipFill>
        <p:spPr>
          <a:xfrm>
            <a:off x="2604960" y="895320"/>
            <a:ext cx="5762880" cy="5429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800" name="Title 1"/>
          <p:cNvSpPr/>
          <p:nvPr/>
        </p:nvSpPr>
        <p:spPr>
          <a:xfrm>
            <a:off x="0" y="1943280"/>
            <a:ext cx="2476440" cy="421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Iespēja aplūkot/lejuplādēt projekta pieteikumu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600" spc="-1" strike="noStrike">
                <a:solidFill>
                  <a:srgbClr val="000000"/>
                </a:solidFill>
                <a:latin typeface="Verdana"/>
              </a:rPr>
              <a:t>Atgādinājums par   prasībām, kuras neievērojot, pieteikums netiks izskatīts</a:t>
            </a: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(vismaz 2 organizācijas no 2 dažādām valstīm; apliecinājuma vēstules no katras iesaistītās organizācijas)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9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01" name="Straight Arrow Connector 8"/>
          <p:cNvCxnSpPr/>
          <p:nvPr/>
        </p:nvCxnSpPr>
        <p:spPr>
          <a:xfrm>
            <a:off x="1714680" y="2827080"/>
            <a:ext cx="762480" cy="42444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802" name="Straight Arrow Connector 11"/>
          <p:cNvCxnSpPr/>
          <p:nvPr/>
        </p:nvCxnSpPr>
        <p:spPr>
          <a:xfrm>
            <a:off x="1956960" y="5151240"/>
            <a:ext cx="762840" cy="108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pic>
        <p:nvPicPr>
          <p:cNvPr id="803" name="Picture 1" descr=""/>
          <p:cNvPicPr/>
          <p:nvPr/>
        </p:nvPicPr>
        <p:blipFill>
          <a:blip r:embed="rId1"/>
          <a:stretch/>
        </p:blipFill>
        <p:spPr>
          <a:xfrm>
            <a:off x="2793960" y="380880"/>
            <a:ext cx="6045120" cy="555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Title 1"/>
          <p:cNvSpPr/>
          <p:nvPr/>
        </p:nvSpPr>
        <p:spPr>
          <a:xfrm>
            <a:off x="0" y="1943280"/>
            <a:ext cx="2476440" cy="379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lv-LV" sz="1800" spc="-1" strike="noStrike">
                <a:solidFill>
                  <a:srgbClr val="000000"/>
                </a:solidFill>
                <a:latin typeface="Verdana"/>
              </a:rPr>
              <a:t>Pirms iesniegšanas sistēma pārbauda, vai ir aizpildītas visas pieteikuma sadaļas un nepieļauj iesniegt daļēji aizpildītu pieteikumu.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88920" indent="-8892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5" name="Picture 1" descr=""/>
          <p:cNvPicPr/>
          <p:nvPr/>
        </p:nvPicPr>
        <p:blipFill>
          <a:blip r:embed="rId1"/>
          <a:stretch/>
        </p:blipFill>
        <p:spPr>
          <a:xfrm>
            <a:off x="2705040" y="0"/>
            <a:ext cx="5829480" cy="650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Jautājumu gadījumā lūdzu sazinā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1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2"/>
              </a:rPr>
              <a:t>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Arial"/>
                <a:ea typeface="Verdana"/>
                <a:hlinkClick r:id="rId3"/>
              </a:rPr>
              <a:t>frank.krohn@siu.no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Vispārīgā informācij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Espresso sistēmas uzturētājs ir Norvēģijas Augstākās izglītības kvalitātes paaugstināšanas un starptautiskās sadarbības aģentūra  DIKU  (</a:t>
            </a:r>
            <a:r>
              <a:rPr b="0" i="1" lang="nn-NO" sz="3000" spc="-1" strike="noStrike">
                <a:solidFill>
                  <a:srgbClr val="000000"/>
                </a:solidFill>
                <a:latin typeface="Calibri"/>
                <a:ea typeface="Verdana"/>
              </a:rPr>
              <a:t>Direktoratet for internasjonalisering og kvalitetsutvikling i høgare utdanning</a:t>
            </a: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3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diku.no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5" name="Picture 1" descr="">
            <a:hlinkClick r:id="rId3"/>
          </p:cNvPr>
          <p:cNvPicPr/>
          <p:nvPr/>
        </p:nvPicPr>
        <p:blipFill>
          <a:blip r:embed="rId4"/>
          <a:stretch/>
        </p:blipFill>
        <p:spPr>
          <a:xfrm>
            <a:off x="5762520" y="4641840"/>
            <a:ext cx="2752920" cy="112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7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8" name="Picture 2" descr=""/>
          <p:cNvPicPr/>
          <p:nvPr/>
        </p:nvPicPr>
        <p:blipFill>
          <a:blip r:embed="rId3"/>
          <a:stretch/>
        </p:blipFill>
        <p:spPr>
          <a:xfrm>
            <a:off x="2490840" y="2160720"/>
            <a:ext cx="5838840" cy="3316320"/>
          </a:xfrm>
          <a:prstGeom prst="rect">
            <a:avLst/>
          </a:prstGeom>
          <a:ln w="0">
            <a:noFill/>
          </a:ln>
        </p:spPr>
      </p:pic>
      <p:sp>
        <p:nvSpPr>
          <p:cNvPr id="749" name="Left Arrow 6"/>
          <p:cNvSpPr/>
          <p:nvPr/>
        </p:nvSpPr>
        <p:spPr>
          <a:xfrm rot="1692600">
            <a:off x="7089480" y="4576320"/>
            <a:ext cx="1720800" cy="552600"/>
          </a:xfrm>
          <a:prstGeom prst="leftArrow">
            <a:avLst>
              <a:gd name="adj1" fmla="val 50000"/>
              <a:gd name="adj2" fmla="val 54481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1"/>
              </a:rPr>
              <a:t>https://</a:t>
            </a:r>
            <a:r>
              <a:rPr b="0" lang="lv-LV" sz="32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2"/>
              </a:rPr>
              <a:t>espresso.siu.n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2" name="Picture 1" descr=""/>
          <p:cNvPicPr/>
          <p:nvPr/>
        </p:nvPicPr>
        <p:blipFill>
          <a:blip r:embed="rId3"/>
          <a:stretch/>
        </p:blipFill>
        <p:spPr>
          <a:xfrm>
            <a:off x="2205000" y="1995480"/>
            <a:ext cx="5969160" cy="348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5" name="Picture 2" descr=""/>
          <p:cNvPicPr/>
          <p:nvPr/>
        </p:nvPicPr>
        <p:blipFill>
          <a:blip r:embed="rId1"/>
          <a:stretch/>
        </p:blipFill>
        <p:spPr>
          <a:xfrm>
            <a:off x="2540160" y="1066680"/>
            <a:ext cx="6343560" cy="5397480"/>
          </a:xfrm>
          <a:prstGeom prst="rect">
            <a:avLst/>
          </a:prstGeom>
          <a:ln w="0">
            <a:noFill/>
          </a:ln>
        </p:spPr>
      </p:pic>
      <p:sp>
        <p:nvSpPr>
          <p:cNvPr id="756" name="Left Arrow 6"/>
          <p:cNvSpPr/>
          <p:nvPr/>
        </p:nvSpPr>
        <p:spPr>
          <a:xfrm rot="1692600">
            <a:off x="7183080" y="4373280"/>
            <a:ext cx="1720800" cy="552240"/>
          </a:xfrm>
          <a:prstGeom prst="leftArrow">
            <a:avLst>
              <a:gd name="adj1" fmla="val 50000"/>
              <a:gd name="adj2" fmla="val 54516"/>
            </a:avLst>
          </a:prstGeom>
          <a:solidFill>
            <a:srgbClr val="c0504d"/>
          </a:solidFill>
          <a:ln w="25560">
            <a:solidFill>
              <a:srgbClr val="8c383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am ir jābūt zināmam  sagatavošanas vizītes pieteikuma iesniegšanas brīdī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8" name=""/>
          <p:cNvSpPr txBox="1"/>
          <p:nvPr/>
        </p:nvSpPr>
        <p:spPr>
          <a:xfrm>
            <a:off x="2012760" y="1775880"/>
            <a:ext cx="6870600" cy="4443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ādā apakšprogrammā (</a:t>
            </a:r>
            <a:r>
              <a:rPr b="0" i="1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Junior, Adult, Languages</a:t>
            </a: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) paredzēts iesniegt projektu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Kas būs projekta partneri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Projekta ideja – ko un kāpēc plānots darīt, kādi būs iespējamie rezultāti un ietekm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darba kārtībai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8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title"/>
          </p:nvPr>
        </p:nvSpPr>
        <p:spPr>
          <a:xfrm>
            <a:off x="2590560" y="196560"/>
            <a:ext cx="6095880" cy="1036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rojekta iesniegšana Espresso sistēm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1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r>
              <a:rPr b="0" lang="lv-LV" sz="32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3" name="Picture 6" descr=""/>
          <p:cNvPicPr/>
          <p:nvPr/>
        </p:nvPicPr>
        <p:blipFill>
          <a:blip r:embed="rId2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66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B4AE7D6-1726-4EA5-AAD3-36F24D76F74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 type="title"/>
          </p:nvPr>
        </p:nvSpPr>
        <p:spPr>
          <a:xfrm>
            <a:off x="-360" y="1943280"/>
            <a:ext cx="2590920" cy="3141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Iesniegums jāsagatavo un jāiesniedz tiešsaistē,   aizpildot elektronisko pieteikuma veidlapu.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 </a:t>
            </a: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8" name="Picture 1" descr=""/>
          <p:cNvPicPr/>
          <p:nvPr/>
        </p:nvPicPr>
        <p:blipFill>
          <a:blip r:embed="rId1"/>
          <a:stretch/>
        </p:blipFill>
        <p:spPr>
          <a:xfrm>
            <a:off x="2590920" y="0"/>
            <a:ext cx="601812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9" name="Picture 2" descr=""/>
          <p:cNvPicPr/>
          <p:nvPr/>
        </p:nvPicPr>
        <p:blipFill>
          <a:blip r:embed="rId1"/>
          <a:stretch/>
        </p:blipFill>
        <p:spPr>
          <a:xfrm>
            <a:off x="3898800" y="406440"/>
            <a:ext cx="4524480" cy="6340320"/>
          </a:xfrm>
          <a:prstGeom prst="rect">
            <a:avLst/>
          </a:prstGeom>
          <a:ln w="0">
            <a:noFill/>
          </a:ln>
        </p:spPr>
      </p:pic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0" y="1943280"/>
            <a:ext cx="3268800" cy="27684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marL="343080" indent="-34308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Nepieciešams ievadīt informāciju par savu un partneru organizāciju Nordplus datubāzē (ja tās vēl nav reģistrētas datu bāzē!)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Abām organizācijām sistēma ģenerē apliecinājuma vēstules, kuras jāparaksta attiecīgo organizāciju/iestāžu paraksttiesīgajām personām, jāieskanē un jāpievieno pieteikumam </a:t>
            </a:r>
            <a:br>
              <a:rPr sz="1600"/>
            </a:br>
            <a:br>
              <a:rPr sz="1600"/>
            </a:br>
            <a:r>
              <a:rPr b="0" lang="lv-LV" sz="16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1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599EE6E2-C053-43CA-B151-4553E35B30A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2" name="Straight Arrow Connector 8"/>
          <p:cNvCxnSpPr/>
          <p:nvPr/>
        </p:nvCxnSpPr>
        <p:spPr>
          <a:xfrm flipV="1">
            <a:off x="3098520" y="2082960"/>
            <a:ext cx="1600920" cy="3366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3" name="Straight Arrow Connector 10"/>
          <p:cNvCxnSpPr/>
          <p:nvPr/>
        </p:nvCxnSpPr>
        <p:spPr>
          <a:xfrm flipV="1">
            <a:off x="3098520" y="2082600"/>
            <a:ext cx="3005640" cy="6732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  <p:cxnSp>
        <p:nvCxnSpPr>
          <p:cNvPr id="774" name="Straight Arrow Connector 12"/>
          <p:cNvCxnSpPr/>
          <p:nvPr/>
        </p:nvCxnSpPr>
        <p:spPr>
          <a:xfrm flipV="1">
            <a:off x="2819160" y="2082240"/>
            <a:ext cx="4966200" cy="1603800"/>
          </a:xfrm>
          <a:prstGeom prst="straightConnector1">
            <a:avLst/>
          </a:prstGeom>
          <a:ln w="9360">
            <a:solidFill>
              <a:srgbClr val="be4b48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03T09:59:12Z</cp:lastPrinted>
  <dcterms:modified xsi:type="dcterms:W3CDTF">2020-09-07T12:26:45Z</dcterms:modified>
  <cp:revision>136</cp:revision>
  <dc:subject/>
  <dc:title>PowerPoint Presentation</dc:title>
</cp:coreProperties>
</file>